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04C-2CD4-4D8D-96AA-9D5A17D4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4FD-61D4-488B-A8A4-640EFDF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8E3-1856-4C02-9C10-56C08EF1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7C0-B5E1-4C61-9855-55821E73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A61-475E-4751-91F3-22502A1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E1E-2819-4CD5-AF47-EF7ED71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15A-5705-409C-BEA6-0769992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58B-7498-43E9-BADC-24C4788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B6C-76AF-45AC-814D-3D1FBAD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7AF-4D0A-47B6-9085-44A1AC4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23A-1611-4FDA-A5E3-7658C4D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571-88F5-4060-BC45-41FF54A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F17-321B-4856-AA1C-6C0D47DBE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38:53Z</dcterms:created>
  <dc:creator>abeason</dc:creator>
  <dc:description/>
  <dc:language>en-US</dc:language>
  <cp:lastModifiedBy>abeason</cp:lastModifiedBy>
  <dcterms:modified xsi:type="dcterms:W3CDTF">2009-10-21T14:39:00Z</dcterms:modified>
  <cp:revision>1</cp:revision>
  <dc:subject/>
  <dc:title>Slide 1</dc:title>
</cp:coreProperties>
</file>